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genius.wav" ContentType="audio/x-wav"/>
  <Override PartName="/ppt/media/learn-ya.wav" ContentType="audio/x-wav"/>
  <Override PartName="/ppt/media/whoosh.wav" ContentType="audio/x-wav"/>
  <Override PartName="/ppt/media/laser.wav" ContentType="audio/x-wav"/>
  <Override PartName="/ppt/media/applause.wav" ContentType="audio/x-wav"/>
  <Override PartName="/ppt/media/plyball.wav" ContentType="audio/x-wav"/>
  <Override PartName="/ppt/media/image1.wmf" ContentType="image/x-wmf"/>
  <Override PartName="/ppt/media/cutout_jb.wav" ContentType="audio/x-wav"/>
  <Override PartName="/ppt/media/image2.wmf" ContentType="image/x-wmf"/>
  <Override PartName="/ppt/media/nbchime.wav" ContentType="audio/x-wav"/>
  <Override PartName="/ppt/media/amisshere.wav" ContentType="audio/x-wav"/>
  <Override PartName="/ppt/media/image3.wmf" ContentType="image/x-wmf"/>
  <Override PartName="/ppt/media/babycrying.wav" ContentType="audio/x-wav"/>
  <Override PartName="/ppt/media/image5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57E-A289-4474-90E3-E9238D5C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294-E23A-4EF7-9D7F-AC123636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3F1-6A72-4148-9D13-A655452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5D5-C008-4C9F-B658-FC5DF70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C4EF-58F7-4B31-8BB3-3DA1C312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1F1-93EC-4675-AF0E-9285CA6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375-78CC-406E-91B6-0918067A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7DF-5E2A-466C-A0F5-17F7BF20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C4A4-66B0-4C11-93D7-5AEA185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441-5E07-4CAC-8931-747B21B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3C52-E9FB-4260-9C5D-11F1AE8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65B-83E7-45E2-BE23-0295151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1EF-8F60-462E-A486-2DEB6E0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F86-3380-48C3-82A7-A0D9A38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5D7-64CA-4578-89A4-8DFBA4F1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04B2-5D2E-4D6B-B184-D2959819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8C6-8FF6-4C60-BEC3-650BBC15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F83-3E4A-4581-8916-5845892A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A36-1B60-4DE5-86FE-B51F1DBD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2FC-0297-47F7-A1DF-975A03C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D88-ADE7-4865-94CB-60F4889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6C6-92F1-4340-9DB0-272A755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EFB-81E9-4D2F-A100-00328F3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F63-A2BA-465A-A41B-07E73B4B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B64-FBC7-4BF1-A50D-3A39C28BB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469C-6D33-4D28-9DB9-13015281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utout_jb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eniu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nbchim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earn-y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lyba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missher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abycryin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sa and Blanc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 Joanne Whit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mber 4, 2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dad will cut the pumpk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213696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335268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of these ladies are my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daughters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4343400"/>
            <a:ext cx="4647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352680"/>
            <a:ext cx="883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of these ladies are my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daughter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91120" y="609480"/>
            <a:ext cx="380880" cy="381240"/>
          </a:xfrm>
          <a:prstGeom prst="uturnArrow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609480"/>
            <a:ext cx="381240" cy="381240"/>
          </a:xfrm>
          <a:prstGeom prst="uturnArrow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33526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man is    alone    at the movie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429000" cy="2766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876920" y="33526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352680"/>
            <a:ext cx="883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man is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t the movie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42900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2860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is one-   half   of a circle.  It is called a semi-circl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ubChord"/>
          <p:cNvSpPr/>
          <p:nvPr/>
        </p:nvSpPr>
        <p:spPr>
          <a:xfrm rot="19404600">
            <a:off x="2971800" y="-5335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362320"/>
            <a:ext cx="289584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057400"/>
            <a:ext cx="883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is one-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half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of a circle.  It is called a semi-circl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ubChord"/>
          <p:cNvSpPr/>
          <p:nvPr/>
        </p:nvSpPr>
        <p:spPr>
          <a:xfrm rot="20425800">
            <a:off x="2590560" y="-3049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tch the words carefully as they flash on the screen.  Spell the word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2895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omic Sans MS"/>
              </a:rPr>
              <a:t>alone</a:t>
            </a:r>
            <a:endParaRPr b="0" lang="en-US" sz="1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80720" y="2895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omic Sans MS"/>
              </a:rPr>
              <a:t>buy</a:t>
            </a:r>
            <a:endParaRPr b="0" lang="en-US" sz="1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daughters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n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on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l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ng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ugh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youngest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half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Great job!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733560" cy="3011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38098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am the    youngest child her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886200"/>
            <a:ext cx="4114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733560" cy="3011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38098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am the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younges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child her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8098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re are many different costum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3962520" cy="2727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029200" y="3886200"/>
            <a:ext cx="35053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many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fferent costum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396252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429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a will   buy    her baby some diaper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3505320"/>
            <a:ext cx="2590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a will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bu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her baby some diaper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3429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ir     dad will cut the pumpk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2136960" cy="318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3429000"/>
            <a:ext cx="31240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5:01:34Z</dcterms:created>
  <dc:creator>default</dc:creator>
  <dc:description/>
  <cp:keywords/>
  <dc:language>en-US</dc:language>
  <cp:lastModifiedBy>default</cp:lastModifiedBy>
  <dcterms:modified xsi:type="dcterms:W3CDTF">2007-12-05T13:20:33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